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3749-9BB4-4F7B-9127-4DC228B0A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433C-C6C2-4A91-AC5A-21E8D429E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0C31-DAF5-4C38-BE91-637D0FF34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F9FB-2811-47B0-9A45-7BA7F926EF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8DB8-9E67-46DE-83DE-7C199EC731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DE2C-2DFB-478C-8C9C-EE56C6572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99FC-1B49-41B2-B726-DC3F5E583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5795-BEAA-4F1A-8B9F-11B9416EF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B366-64CB-489B-B3BF-B3850AB78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B342-5BA3-4948-98B5-47B97C88E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5B4D1-B5ED-4FCE-81CB-73E03AB35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5748-90F0-438E-B220-2350B077A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33800" y="47520"/>
            <a:ext cx="28954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752880" y="66103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144F-A157-4A31-8109-2388CC3AF2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595920"/>
            <a:ext cx="28958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98440" y="6624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12760" y="6613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ction 7 (B249BWF1 Supplem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3613" r="0" b="2392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D95F-E94D-4C22-B64A-741F0DCF59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4222" r="0" b="2480"/>
          <a:stretch/>
        </p:blipFill>
        <p:spPr>
          <a:xfrm>
            <a:off x="11160" y="307800"/>
            <a:ext cx="913284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87F9-F294-44DD-BC38-E4C6ABE563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3093" r="0" b="2395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76FB-1142-4F5B-9F57-D58C44B14B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3473" r="0" b="2835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6A0D-ACB3-49D3-805E-CDEA2487F0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3403" r="0" b="2635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DD89-27AE-457C-B2A7-CC5186A9AE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3518" r="0" b="2344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51084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A244-DC91-4059-B48F-93318E11D3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3580" r="0" b="2554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51084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B9EB-5A86-4768-9A1F-8E0DB0FF47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3613" r="0" b="2392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5649840" y="3078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EEA2-AD06-49B9-8623-722497BB37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4640" r="0" b="2510"/>
          <a:stretch/>
        </p:blipFill>
        <p:spPr>
          <a:xfrm>
            <a:off x="0" y="307800"/>
            <a:ext cx="9144000" cy="6162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3078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DBCF-4FFB-46FC-9257-3F7204F7A2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4222" r="0" b="2610"/>
          <a:stretch/>
        </p:blipFill>
        <p:spPr>
          <a:xfrm>
            <a:off x="23760" y="307800"/>
            <a:ext cx="9120240" cy="631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51084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FC63-118D-434C-B965-F5361B5CF8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3241" r="0" b="2045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3078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39CF5-D71B-4011-AE66-0FBC4241C4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3964" r="0" b="3735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59793" t="4462" r="1996" b="72978"/>
          <a:stretch/>
        </p:blipFill>
        <p:spPr>
          <a:xfrm>
            <a:off x="0" y="5108400"/>
            <a:ext cx="3494160" cy="15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8583-D56D-4D5B-B515-682F9A0392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3292" r="0" b="2606"/>
          <a:stretch/>
        </p:blipFill>
        <p:spPr>
          <a:xfrm>
            <a:off x="0" y="3078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C27A-F999-4AA5-BC20-F9C0991896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4:03:31Z</dcterms:created>
  <dc:creator>harrije2</dc:creator>
  <dc:description/>
  <dc:language>en-US</dc:language>
  <cp:lastModifiedBy>michael.masucci</cp:lastModifiedBy>
  <dcterms:modified xsi:type="dcterms:W3CDTF">2007-10-23T23:33:28Z</dcterms:modified>
  <cp:revision>114</cp:revision>
  <dc:subject/>
  <dc:title>Slide 1</dc:title>
</cp:coreProperties>
</file>