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379766-D84C-4258-88A9-DA62F413B2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76CCA1-3502-41FA-B2CC-9F09FA12A8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876367-B876-4D92-9B2C-A536DAB259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C33F4B-09E1-46DD-948E-536EAD934F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1C665-8E1C-4D52-BF92-3367C16755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ECB1F-134B-4765-B9E9-3A12D4832C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6BF095-D981-4C2C-A79C-5F2D6D2992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873FE33D-B209-4083-B7CC-1FC91DFF30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074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35A70E9-0F3A-4D70-8C18-D94017D564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43D309-C0AC-4EE6-9793-5EAC01120A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1F9D34-13AA-4EB7-BC81-ACCD259E2A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715326-28EF-4114-B823-B3C395B824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3133800" y="47520"/>
            <a:ext cx="2895480" cy="2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CLASSIFIED</a:t>
            </a:r>
            <a:endParaRPr b="0" lang="en-US" sz="1400" spc="-1" strike="noStrike">
              <a:solidFill>
                <a:srgbClr val="000000"/>
              </a:solidFill>
              <a:latin typeface="Arial"/>
            </a:endParaRPr>
          </a:p>
        </p:txBody>
      </p:sp>
      <p:sp>
        <p:nvSpPr>
          <p:cNvPr id="1" name="PlaceHolder 1"/>
          <p:cNvSpPr>
            <a:spLocks noGrp="1"/>
          </p:cNvSpPr>
          <p:nvPr>
            <p:ph type="sldNum" idx="1"/>
          </p:nvPr>
        </p:nvSpPr>
        <p:spPr>
          <a:xfrm>
            <a:off x="6752880" y="6610320"/>
            <a:ext cx="21337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C7CBC-DB40-4525-884A-252480DCF6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 name="Rectangle 9"/>
          <p:cNvSpPr/>
          <p:nvPr/>
        </p:nvSpPr>
        <p:spPr>
          <a:xfrm>
            <a:off x="3124080" y="6595920"/>
            <a:ext cx="2895840" cy="2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CLASSIFIED</a:t>
            </a:r>
            <a:endParaRPr b="0" lang="en-US" sz="1400" spc="-1" strike="noStrike">
              <a:solidFill>
                <a:srgbClr val="000000"/>
              </a:solidFill>
              <a:latin typeface="Arial"/>
            </a:endParaRPr>
          </a:p>
        </p:txBody>
      </p:sp>
      <p:sp>
        <p:nvSpPr>
          <p:cNvPr id="3" name="Text Box 10"/>
          <p:cNvSpPr/>
          <p:nvPr/>
        </p:nvSpPr>
        <p:spPr>
          <a:xfrm>
            <a:off x="298440" y="6624720"/>
            <a:ext cx="184320" cy="24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 Box 11"/>
          <p:cNvSpPr/>
          <p:nvPr/>
        </p:nvSpPr>
        <p:spPr>
          <a:xfrm>
            <a:off x="212760" y="6613560"/>
            <a:ext cx="2952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ection 7          </a:t>
            </a:r>
            <a:endParaRPr b="0" lang="en-US" sz="1000" spc="-1" strike="noStrike">
              <a:solidFill>
                <a:srgbClr val="000000"/>
              </a:solidFill>
              <a:latin typeface="Arial"/>
            </a:endParaRPr>
          </a:p>
        </p:txBody>
      </p:sp>
      <p:sp>
        <p:nvSpPr>
          <p:cNvPr id="5" name="PlaceHolder 2"/>
          <p:cNvSpPr>
            <a:spLocks noGrp="1"/>
          </p:cNvSpPr>
          <p:nvPr>
            <p:ph type="title"/>
          </p:nvPr>
        </p:nvSpPr>
        <p:spPr>
          <a:xfrm>
            <a:off x="457200" y="307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lide Number Placeholder 3"/>
          <p:cNvSpPr/>
          <p:nvPr/>
        </p:nvSpPr>
        <p:spPr>
          <a:xfrm>
            <a:off x="6753240" y="6610320"/>
            <a:ext cx="213372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E8F5-A540-4879-92A4-8F8B061D83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3" name="Text Box 2"/>
          <p:cNvSpPr/>
          <p:nvPr/>
        </p:nvSpPr>
        <p:spPr>
          <a:xfrm>
            <a:off x="5810400" y="623880"/>
            <a:ext cx="466560" cy="184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4"/>
          <p:cNvSpPr/>
          <p:nvPr/>
        </p:nvSpPr>
        <p:spPr>
          <a:xfrm>
            <a:off x="6172200" y="647640"/>
            <a:ext cx="542880" cy="133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5" descr="K:\share\staging_areas\SLIDES.WALTGUAM\slide1.jpg"/>
          <p:cNvPicPr/>
          <p:nvPr/>
        </p:nvPicPr>
        <p:blipFill>
          <a:blip r:embed="rId1"/>
          <a:srcRect l="0" t="3813" r="0" b="2742"/>
          <a:stretch/>
        </p:blipFill>
        <p:spPr>
          <a:xfrm>
            <a:off x="0" y="307800"/>
            <a:ext cx="9144000" cy="6316920"/>
          </a:xfrm>
          <a:prstGeom prst="rect">
            <a:avLst/>
          </a:prstGeom>
          <a:ln w="0">
            <a:noFill/>
          </a:ln>
        </p:spPr>
      </p:pic>
      <p:sp>
        <p:nvSpPr>
          <p:cNvPr id="46" name="TextBox 5"/>
          <p:cNvSpPr/>
          <p:nvPr/>
        </p:nvSpPr>
        <p:spPr>
          <a:xfrm>
            <a:off x="5216400" y="4441680"/>
            <a:ext cx="3927600" cy="1464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am TFR – SW Corner -          N1328.6067 E14444.818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 Arc End Point - N1334.1700 E14442.753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 Corner -           N1338.4033 E14507.861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Arc End Point -  N1344.0083 E14505.833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er of RWY Point – N1335.0317 E14455.798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c Apex is 12.3nm from center poi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ll coordinates and measurements are approximations from the dimensions and drawings that were provid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6753240" y="6610320"/>
            <a:ext cx="213372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7C585-051D-41B4-9963-9882E2B544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8" name="Text Box 2"/>
          <p:cNvSpPr/>
          <p:nvPr/>
        </p:nvSpPr>
        <p:spPr>
          <a:xfrm>
            <a:off x="5810400" y="623880"/>
            <a:ext cx="466560" cy="184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4"/>
          <p:cNvSpPr/>
          <p:nvPr/>
        </p:nvSpPr>
        <p:spPr>
          <a:xfrm>
            <a:off x="6172200" y="647640"/>
            <a:ext cx="542880" cy="133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5" descr="K:\share\staging_areas\SLIDES.WALTGUAM\slide1.jpg"/>
          <p:cNvPicPr/>
          <p:nvPr/>
        </p:nvPicPr>
        <p:blipFill>
          <a:blip r:embed="rId1"/>
          <a:srcRect l="0" t="3813" r="0" b="2742"/>
          <a:stretch/>
        </p:blipFill>
        <p:spPr>
          <a:xfrm>
            <a:off x="0" y="307800"/>
            <a:ext cx="9144000" cy="6316920"/>
          </a:xfrm>
          <a:prstGeom prst="rect">
            <a:avLst/>
          </a:prstGeom>
          <a:ln w="0">
            <a:noFill/>
          </a:ln>
        </p:spPr>
      </p:pic>
      <p:sp>
        <p:nvSpPr>
          <p:cNvPr id="51" name="TextBox 5"/>
          <p:cNvSpPr/>
          <p:nvPr/>
        </p:nvSpPr>
        <p:spPr>
          <a:xfrm>
            <a:off x="4203720" y="307800"/>
            <a:ext cx="494028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WY 06R Dept: RWY heading to UAM064009 climbing thru 6139 ft. Left turn heading 334 to UAM036011 climbing to 15489 ft.  Left turn heading 242 to UNZ360007 climbing to 27250 ft. Right turn heading 311 to UNZ350009 (TFR departure) and climbing to 27990 ft. </a:t>
            </a:r>
            <a:endParaRPr b="0" lang="en-US" sz="1400" spc="-1" strike="noStrike">
              <a:solidFill>
                <a:srgbClr val="000000"/>
              </a:solidFill>
              <a:latin typeface="Arial"/>
            </a:endParaRPr>
          </a:p>
        </p:txBody>
      </p:sp>
      <p:sp>
        <p:nvSpPr>
          <p:cNvPr id="52" name="TextBox 5"/>
          <p:cNvSpPr/>
          <p:nvPr/>
        </p:nvSpPr>
        <p:spPr>
          <a:xfrm>
            <a:off x="0" y="4592520"/>
            <a:ext cx="4940280" cy="2012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ach RWY 06R: Start approach heading 134 at (TFR) UNZ350009 at 21721 ft. Turn left heading 131 to UNZ360007 at 20845 ft. Turn left heading 062 to UAM341005 at 15257 ft. Turn left heading 336 to UAM338009 at 13488 ft. Turn left heading 242 to UNZ001012 (IAF) at 8908 ft. Turn left heading 182 to UNZ360007 at 6648 ft. Turn left heading 131 to UNZ040005 at 4521 ft. Turn left heading 064 to UNZ046007 at 3586 ft. to UAM243007 (FAF) to touchdown (15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3"/>
          <p:cNvSpPr/>
          <p:nvPr/>
        </p:nvSpPr>
        <p:spPr>
          <a:xfrm>
            <a:off x="6753240" y="6610320"/>
            <a:ext cx="213372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8752-C656-475E-AA0B-5EF739426C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4" name="Text Box 2"/>
          <p:cNvSpPr/>
          <p:nvPr/>
        </p:nvSpPr>
        <p:spPr>
          <a:xfrm>
            <a:off x="5810400" y="623880"/>
            <a:ext cx="466560" cy="184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4"/>
          <p:cNvSpPr/>
          <p:nvPr/>
        </p:nvSpPr>
        <p:spPr>
          <a:xfrm>
            <a:off x="6172200" y="647640"/>
            <a:ext cx="542880" cy="133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5" descr="K:\share\staging_areas\SLIDES.WALTGUAM\slide2.jpg"/>
          <p:cNvPicPr/>
          <p:nvPr/>
        </p:nvPicPr>
        <p:blipFill>
          <a:blip r:embed="rId1"/>
          <a:srcRect l="0" t="3813" r="0" b="2742"/>
          <a:stretch/>
        </p:blipFill>
        <p:spPr>
          <a:xfrm>
            <a:off x="0" y="307800"/>
            <a:ext cx="9144000" cy="6316920"/>
          </a:xfrm>
          <a:prstGeom prst="rect">
            <a:avLst/>
          </a:prstGeom>
          <a:ln w="0">
            <a:noFill/>
          </a:ln>
        </p:spPr>
      </p:pic>
      <p:sp>
        <p:nvSpPr>
          <p:cNvPr id="57" name="TextBox 5"/>
          <p:cNvSpPr/>
          <p:nvPr/>
        </p:nvSpPr>
        <p:spPr>
          <a:xfrm>
            <a:off x="0" y="307800"/>
            <a:ext cx="4940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WY 06R Dept: UNZ350009 (TFR departure) at approximately 27990 ft. 13 minutes after takeoff.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3"/>
          <p:cNvSpPr/>
          <p:nvPr/>
        </p:nvSpPr>
        <p:spPr>
          <a:xfrm>
            <a:off x="6753240" y="6610320"/>
            <a:ext cx="213372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48C3-82F8-4B5E-AB72-C9064198DD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9" name="Text Box 2"/>
          <p:cNvSpPr/>
          <p:nvPr/>
        </p:nvSpPr>
        <p:spPr>
          <a:xfrm>
            <a:off x="5810400" y="623880"/>
            <a:ext cx="466560" cy="184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4"/>
          <p:cNvSpPr/>
          <p:nvPr/>
        </p:nvSpPr>
        <p:spPr>
          <a:xfrm>
            <a:off x="6172200" y="647640"/>
            <a:ext cx="542880" cy="133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5" descr="K:\share\staging_areas\SLIDES.WLTGUAMB\slide1.jpg"/>
          <p:cNvPicPr/>
          <p:nvPr/>
        </p:nvPicPr>
        <p:blipFill>
          <a:blip r:embed="rId1"/>
          <a:srcRect l="0" t="3813" r="0" b="2742"/>
          <a:stretch/>
        </p:blipFill>
        <p:spPr>
          <a:xfrm>
            <a:off x="0" y="307800"/>
            <a:ext cx="9144000" cy="6316920"/>
          </a:xfrm>
          <a:prstGeom prst="rect">
            <a:avLst/>
          </a:prstGeom>
          <a:ln w="0">
            <a:noFill/>
          </a:ln>
        </p:spPr>
      </p:pic>
      <p:sp>
        <p:nvSpPr>
          <p:cNvPr id="62" name="TextBox 5"/>
          <p:cNvSpPr/>
          <p:nvPr/>
        </p:nvSpPr>
        <p:spPr>
          <a:xfrm>
            <a:off x="4203720" y="307800"/>
            <a:ext cx="494028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WY 24L Dept: RWY heading to UNZ046007 climbing thru10275 ft. Right turn heading 337 to UNZ001012 and climbing to 16849 ft.  Right turn heading 062 to UAM338009 and climbing to 22743 ft. Right turn heading 156 to UAM341005 and climbing to 24617 ft. Right turn heading 242 to UNZ003007 and climbing to 29502 ft. Right turn heading 302 to UNZ350009 (TFR departure) and climbing to 30225 f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3"/>
          <p:cNvSpPr/>
          <p:nvPr/>
        </p:nvSpPr>
        <p:spPr>
          <a:xfrm>
            <a:off x="6753240" y="6610320"/>
            <a:ext cx="213372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DDA3-7310-415D-9AF2-B881A32DB4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4" name="Text Box 2"/>
          <p:cNvSpPr/>
          <p:nvPr/>
        </p:nvSpPr>
        <p:spPr>
          <a:xfrm>
            <a:off x="5810400" y="623880"/>
            <a:ext cx="466560" cy="184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4"/>
          <p:cNvSpPr/>
          <p:nvPr/>
        </p:nvSpPr>
        <p:spPr>
          <a:xfrm>
            <a:off x="6172200" y="647640"/>
            <a:ext cx="542880" cy="133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5" descr="K:\share\staging_areas\SLIDES.WLTGUAMB\slide2.jpg"/>
          <p:cNvPicPr/>
          <p:nvPr/>
        </p:nvPicPr>
        <p:blipFill>
          <a:blip r:embed="rId1"/>
          <a:srcRect l="0" t="3813" r="0" b="2742"/>
          <a:stretch/>
        </p:blipFill>
        <p:spPr>
          <a:xfrm>
            <a:off x="0" y="307800"/>
            <a:ext cx="9144000" cy="6316920"/>
          </a:xfrm>
          <a:prstGeom prst="rect">
            <a:avLst/>
          </a:prstGeom>
          <a:ln w="0">
            <a:noFill/>
          </a:ln>
        </p:spPr>
      </p:pic>
      <p:sp>
        <p:nvSpPr>
          <p:cNvPr id="67" name="TextBox 5"/>
          <p:cNvSpPr/>
          <p:nvPr/>
        </p:nvSpPr>
        <p:spPr>
          <a:xfrm>
            <a:off x="0" y="307800"/>
            <a:ext cx="4940280" cy="20120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ach RWY 06R: Start approach heading 134 at (TFR) UNZ350009 at 21721 ft. Turn left heading 131 to UNZ360007 at 20845 ft. Turn left heading 062 to UAM341005 at 15257 ft. Turn left heading 336 to UAM338009 at 13488 ft. Turn left heading 242 to UNZ001012 (IAF) at 8908 ft. Turn left heading 182 to UNZ360007 at 6648 ft. Turn left heading 131 to UNZ040005 at 4521 ft. Turn left heading 064 to UNZ046007 at 3586 ft. to UAM243007 (FAF) to touchdown (1500’).  </a:t>
            </a:r>
            <a:endParaRPr b="0" lang="en-US" sz="1400" spc="-1" strike="noStrike">
              <a:solidFill>
                <a:srgbClr val="000000"/>
              </a:solidFill>
              <a:latin typeface="Arial"/>
            </a:endParaRPr>
          </a:p>
        </p:txBody>
      </p:sp>
      <p:sp>
        <p:nvSpPr>
          <p:cNvPr id="68" name="TextBox 6"/>
          <p:cNvSpPr/>
          <p:nvPr/>
        </p:nvSpPr>
        <p:spPr>
          <a:xfrm>
            <a:off x="0" y="6100920"/>
            <a:ext cx="4940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WY 06R Dept: UNZ350009 (TFR departure) at approximately 30000 ft. 15 minutes after takeoff.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4T14:03:31Z</dcterms:created>
  <dc:creator>harrije2</dc:creator>
  <dc:description/>
  <dc:language>en-US</dc:language>
  <cp:lastModifiedBy>B, Baker</cp:lastModifiedBy>
  <dcterms:modified xsi:type="dcterms:W3CDTF">2009-12-10T06:39:58Z</dcterms:modified>
  <cp:revision>277</cp:revision>
  <dc:subject/>
  <dc:title>Slide 1</dc:title>
</cp:coreProperties>
</file>