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3A34F-08C9-4AAF-84E3-B78129CC5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11B3B-DE82-4A72-9731-1644CC2D3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D4F62-69E5-4941-B96E-8C0ABC9424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91D14-D18C-45F0-98CC-CE1DC76339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07D9B-E2EC-4B86-B0B8-63360489DB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BED2A-7A5A-4720-866A-E49A3CA893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F965-3297-4C39-BDC4-6E2CA8588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A34E6-3E10-4845-A812-D96D05527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07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9E7D4-17E7-45D4-8634-7C2380A01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56479-0C2F-43AC-A2F8-533EEB1201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B4989-4297-40BA-B621-E559C597D2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FA717-E92A-4663-BC45-0B8C838D7E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3133800" y="47520"/>
            <a:ext cx="28954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752880" y="66103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0CEF-9C23-464F-8271-0F4F915181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124080" y="6595920"/>
            <a:ext cx="28958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298440" y="66247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1"/>
          <p:cNvSpPr/>
          <p:nvPr/>
        </p:nvSpPr>
        <p:spPr>
          <a:xfrm>
            <a:off x="212760" y="6613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ection 7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3"/>
          <p:cNvSpPr/>
          <p:nvPr/>
        </p:nvSpPr>
        <p:spPr>
          <a:xfrm>
            <a:off x="6753240" y="66103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8C1E-AFDA-4427-A005-0BD94D83FA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AC 8 01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5838840" y="619200"/>
            <a:ext cx="6476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5724360" y="600120"/>
            <a:ext cx="56232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V:\share\staging_areas\SLIDES2.WALTGUAM\slide7.jpg"/>
          <p:cNvPicPr/>
          <p:nvPr/>
        </p:nvPicPr>
        <p:blipFill>
          <a:blip r:embed="rId1"/>
          <a:srcRect l="0" t="3518" r="0" b="2082"/>
          <a:stretch/>
        </p:blipFill>
        <p:spPr>
          <a:xfrm>
            <a:off x="0" y="279360"/>
            <a:ext cx="914400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753240" y="66103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C665-5615-42C8-A88A-04AD15AEC6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V:\share\staging_areas\SLIDES2.WALTGUAM\slide6.jpg"/>
          <p:cNvPicPr/>
          <p:nvPr/>
        </p:nvPicPr>
        <p:blipFill>
          <a:blip r:embed="rId1"/>
          <a:srcRect l="0" t="4444" r="0" b="2591"/>
          <a:stretch/>
        </p:blipFill>
        <p:spPr>
          <a:xfrm>
            <a:off x="0" y="285840"/>
            <a:ext cx="9144000" cy="637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" name="TextBox 4"/>
          <p:cNvSpPr/>
          <p:nvPr/>
        </p:nvSpPr>
        <p:spPr>
          <a:xfrm>
            <a:off x="4753080" y="1971720"/>
            <a:ext cx="8190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AM 353/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91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3438360" y="2981160"/>
            <a:ext cx="81936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AM 281/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tch Pt TF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7"/>
          <p:cNvCxnSpPr>
            <a:stCxn id="51" idx="2"/>
          </p:cNvCxnSpPr>
          <p:nvPr/>
        </p:nvCxnSpPr>
        <p:spPr>
          <a:xfrm>
            <a:off x="5161320" y="2309400"/>
            <a:ext cx="429480" cy="5292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4" name="Straight Arrow Connector 9"/>
          <p:cNvCxnSpPr>
            <a:stCxn id="51" idx="2"/>
          </p:cNvCxnSpPr>
          <p:nvPr/>
        </p:nvCxnSpPr>
        <p:spPr>
          <a:xfrm>
            <a:off x="5162400" y="2309400"/>
            <a:ext cx="410400" cy="52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Straight Arrow Connector 11"/>
          <p:cNvCxnSpPr>
            <a:stCxn id="52" idx="2"/>
          </p:cNvCxnSpPr>
          <p:nvPr/>
        </p:nvCxnSpPr>
        <p:spPr>
          <a:xfrm>
            <a:off x="3846960" y="3319560"/>
            <a:ext cx="848520" cy="6055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6" name="Straight Arrow Connector 13"/>
          <p:cNvCxnSpPr>
            <a:stCxn id="52" idx="2"/>
          </p:cNvCxnSpPr>
          <p:nvPr/>
        </p:nvCxnSpPr>
        <p:spPr>
          <a:xfrm>
            <a:off x="3846960" y="3319560"/>
            <a:ext cx="886680" cy="605520"/>
          </a:xfrm>
          <a:prstGeom prst="straightConnector1">
            <a:avLst/>
          </a:prstGeom>
          <a:ln w="9360">
            <a:solidFill>
              <a:srgbClr val="000000">
                <a:alpha val="0"/>
              </a:srgbClr>
            </a:solidFill>
            <a:miter/>
            <a:tailEnd len="med" type="arrow" w="med"/>
          </a:ln>
        </p:spPr>
      </p:cxnSp>
      <p:cxnSp>
        <p:nvCxnSpPr>
          <p:cNvPr id="57" name="Straight Arrow Connector 15"/>
          <p:cNvCxnSpPr>
            <a:stCxn id="52" idx="2"/>
          </p:cNvCxnSpPr>
          <p:nvPr/>
        </p:nvCxnSpPr>
        <p:spPr>
          <a:xfrm>
            <a:off x="3848040" y="3319560"/>
            <a:ext cx="867600" cy="6148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8" name="Straight Arrow Connector 17"/>
          <p:cNvCxnSpPr>
            <a:stCxn id="52" idx="2"/>
          </p:cNvCxnSpPr>
          <p:nvPr/>
        </p:nvCxnSpPr>
        <p:spPr>
          <a:xfrm>
            <a:off x="3846960" y="3319560"/>
            <a:ext cx="85788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753240" y="66103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F381-D37B-4352-B0C6-CEA9627DEC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V:\share\staging_areas\SLIDES.WALTGUAM\slide5.jpg"/>
          <p:cNvPicPr/>
          <p:nvPr/>
        </p:nvPicPr>
        <p:blipFill>
          <a:blip r:embed="rId1"/>
          <a:srcRect l="0" t="3167" r="0" b="2178"/>
          <a:stretch/>
        </p:blipFill>
        <p:spPr>
          <a:xfrm>
            <a:off x="0" y="295200"/>
            <a:ext cx="9144000" cy="635004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2781360" y="542880"/>
            <a:ext cx="8190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AM 353/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91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Straight Arrow Connector 5"/>
          <p:cNvCxnSpPr/>
          <p:nvPr/>
        </p:nvCxnSpPr>
        <p:spPr>
          <a:xfrm>
            <a:off x="3591000" y="671040"/>
            <a:ext cx="410400" cy="52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TextBox 6"/>
          <p:cNvSpPr/>
          <p:nvPr/>
        </p:nvSpPr>
        <p:spPr>
          <a:xfrm>
            <a:off x="1085760" y="1562040"/>
            <a:ext cx="8668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AM 281/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tch Pt  TF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7"/>
          <p:cNvCxnSpPr/>
          <p:nvPr/>
        </p:nvCxnSpPr>
        <p:spPr>
          <a:xfrm>
            <a:off x="1923120" y="1882800"/>
            <a:ext cx="85788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Rectangle 8"/>
          <p:cNvSpPr/>
          <p:nvPr/>
        </p:nvSpPr>
        <p:spPr>
          <a:xfrm>
            <a:off x="6610320" y="2705040"/>
            <a:ext cx="1266840" cy="277200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753240" y="66103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94C9-554F-4506-B5D8-5B8B50E66D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V:\share\staging_areas\SLIDES.WALTGUAM\slide4.jpg"/>
          <p:cNvPicPr/>
          <p:nvPr/>
        </p:nvPicPr>
        <p:blipFill>
          <a:blip r:embed="rId1"/>
          <a:srcRect l="0" t="3983" r="0" b="1993"/>
          <a:stretch/>
        </p:blipFill>
        <p:spPr>
          <a:xfrm>
            <a:off x="0" y="27936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2971800" y="4505400"/>
            <a:ext cx="8190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Z 316/0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307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295200" y="981000"/>
            <a:ext cx="81936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Z 317/0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288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1181160" y="3648240"/>
            <a:ext cx="8190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Z 306/0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tch Pt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1047600" y="2657520"/>
            <a:ext cx="81936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Z 313/0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tch Pt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Straight Arrow Connector 8"/>
          <p:cNvCxnSpPr/>
          <p:nvPr/>
        </p:nvCxnSpPr>
        <p:spPr>
          <a:xfrm flipV="1">
            <a:off x="838080" y="732960"/>
            <a:ext cx="362520" cy="23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9"/>
          <p:cNvCxnSpPr/>
          <p:nvPr/>
        </p:nvCxnSpPr>
        <p:spPr>
          <a:xfrm flipV="1">
            <a:off x="1866600" y="2513880"/>
            <a:ext cx="362520" cy="23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Straight Arrow Connector 10"/>
          <p:cNvCxnSpPr/>
          <p:nvPr/>
        </p:nvCxnSpPr>
        <p:spPr>
          <a:xfrm flipV="1">
            <a:off x="1990800" y="3428280"/>
            <a:ext cx="50544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Straight Arrow Connector 12"/>
          <p:cNvCxnSpPr/>
          <p:nvPr/>
        </p:nvCxnSpPr>
        <p:spPr>
          <a:xfrm flipV="1">
            <a:off x="3800520" y="4209840"/>
            <a:ext cx="50544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753240" y="66103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27FD-3061-4086-9388-BF45CC7D4C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V:\share\staging_areas\SLIDES.WALTGUAM\slide3.jpg"/>
          <p:cNvPicPr/>
          <p:nvPr/>
        </p:nvPicPr>
        <p:blipFill>
          <a:blip r:embed="rId1"/>
          <a:srcRect l="0" t="3333" r="0" b="2407"/>
          <a:stretch/>
        </p:blipFill>
        <p:spPr>
          <a:xfrm>
            <a:off x="0" y="317520"/>
            <a:ext cx="9144000" cy="629928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295200" y="981000"/>
            <a:ext cx="81936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Z 317/0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288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552600" y="2209680"/>
            <a:ext cx="8190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Z 313/0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tch Pt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1209600" y="3743280"/>
            <a:ext cx="81936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Z 306/0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tch Pt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3162240" y="4543560"/>
            <a:ext cx="81936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Z 316/0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307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8"/>
          <p:cNvCxnSpPr/>
          <p:nvPr/>
        </p:nvCxnSpPr>
        <p:spPr>
          <a:xfrm flipV="1">
            <a:off x="838080" y="732960"/>
            <a:ext cx="362520" cy="23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Straight Arrow Connector 9"/>
          <p:cNvCxnSpPr/>
          <p:nvPr/>
        </p:nvCxnSpPr>
        <p:spPr>
          <a:xfrm>
            <a:off x="1380600" y="2360520"/>
            <a:ext cx="791640" cy="2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Straight Arrow Connector 11"/>
          <p:cNvCxnSpPr/>
          <p:nvPr/>
        </p:nvCxnSpPr>
        <p:spPr>
          <a:xfrm flipV="1">
            <a:off x="1924200" y="3447360"/>
            <a:ext cx="552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Straight Arrow Connector 13"/>
          <p:cNvCxnSpPr/>
          <p:nvPr/>
        </p:nvCxnSpPr>
        <p:spPr>
          <a:xfrm flipV="1">
            <a:off x="3790440" y="4209840"/>
            <a:ext cx="50580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753240" y="66103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4C20-B407-45FB-A221-C9AA0B3B38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V:\share\staging_areas\SLIDES.WALTGUAM\slide1.jpg"/>
          <p:cNvPicPr/>
          <p:nvPr/>
        </p:nvPicPr>
        <p:blipFill>
          <a:blip r:embed="rId1"/>
          <a:srcRect l="0" t="4629" r="0" b="3148"/>
          <a:stretch/>
        </p:blipFill>
        <p:spPr>
          <a:xfrm>
            <a:off x="0" y="31752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723960" y="2590920"/>
            <a:ext cx="8190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Z 317/0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288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419120" y="4038480"/>
            <a:ext cx="81936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Z 313/0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tch Pt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1952640" y="5857920"/>
            <a:ext cx="8190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Z 306/0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tch Pt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4000680" y="6276960"/>
            <a:ext cx="8190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Z 316/0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307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9"/>
          <p:cNvCxnSpPr>
            <a:stCxn id="91" idx="3"/>
          </p:cNvCxnSpPr>
          <p:nvPr/>
        </p:nvCxnSpPr>
        <p:spPr>
          <a:xfrm flipV="1">
            <a:off x="1542960" y="2647440"/>
            <a:ext cx="667440" cy="11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Straight Arrow Connector 11"/>
          <p:cNvCxnSpPr>
            <a:stCxn id="92" idx="3"/>
          </p:cNvCxnSpPr>
          <p:nvPr/>
        </p:nvCxnSpPr>
        <p:spPr>
          <a:xfrm>
            <a:off x="2238480" y="4208400"/>
            <a:ext cx="953280" cy="1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Straight Arrow Connector 13"/>
          <p:cNvCxnSpPr>
            <a:stCxn id="93" idx="3"/>
          </p:cNvCxnSpPr>
          <p:nvPr/>
        </p:nvCxnSpPr>
        <p:spPr>
          <a:xfrm flipV="1">
            <a:off x="2771640" y="5447880"/>
            <a:ext cx="743760" cy="58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Straight Arrow Connector 15"/>
          <p:cNvCxnSpPr>
            <a:stCxn id="94" idx="3"/>
          </p:cNvCxnSpPr>
          <p:nvPr/>
        </p:nvCxnSpPr>
        <p:spPr>
          <a:xfrm flipV="1">
            <a:off x="4819680" y="6200280"/>
            <a:ext cx="496080" cy="2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4:03:31Z</dcterms:created>
  <dc:creator>harrije2</dc:creator>
  <dc:description/>
  <dc:language>en-US</dc:language>
  <cp:lastModifiedBy>afmss</cp:lastModifiedBy>
  <dcterms:modified xsi:type="dcterms:W3CDTF">2010-01-06T16:45:52Z</dcterms:modified>
  <cp:revision>254</cp:revision>
  <dc:subject/>
  <dc:title>Slide 1</dc:title>
</cp:coreProperties>
</file>