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4FDC2-4799-4991-A8DF-CB6A885BC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AC01D-FA21-47C6-9041-C0608DAE3E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712F05-B37F-43D3-ABA4-EF502A847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C941DE-0968-4A7E-8B41-D995FF65FB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4CD6-0C50-41E2-8BEC-2F3DCC0875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6778-0C04-4542-85D4-C49830229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56D27-AFAF-4A12-AB78-00B113DF97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BF282187-AC63-4282-9B6B-582F8C40DD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74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B08C25F-89AC-4FDA-A668-814E54D389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30C85-0258-4A80-A24C-6DAAB71CCF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716D0-95E1-427A-934D-89D068BEA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5534C-580B-444D-BCC3-9BD5FE4940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3133800" y="47520"/>
            <a:ext cx="2895480" cy="2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LASSIFIED</a:t>
            </a:r>
            <a:endParaRPr b="0" lang="en-US" sz="1400" spc="-1" strike="noStrike">
              <a:solidFill>
                <a:srgbClr val="000000"/>
              </a:solidFill>
              <a:latin typeface="Arial"/>
            </a:endParaRPr>
          </a:p>
        </p:txBody>
      </p:sp>
      <p:sp>
        <p:nvSpPr>
          <p:cNvPr id="1" name="PlaceHolder 1"/>
          <p:cNvSpPr>
            <a:spLocks noGrp="1"/>
          </p:cNvSpPr>
          <p:nvPr>
            <p:ph type="sldNum" idx="1"/>
          </p:nvPr>
        </p:nvSpPr>
        <p:spPr>
          <a:xfrm>
            <a:off x="6752880" y="6610320"/>
            <a:ext cx="21337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A778-2C0E-45AD-97BE-13435BABE1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Rectangle 9"/>
          <p:cNvSpPr/>
          <p:nvPr/>
        </p:nvSpPr>
        <p:spPr>
          <a:xfrm>
            <a:off x="3124080" y="6595920"/>
            <a:ext cx="2895840" cy="2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LASSIFIED</a:t>
            </a:r>
            <a:endParaRPr b="0" lang="en-US" sz="1400" spc="-1" strike="noStrike">
              <a:solidFill>
                <a:srgbClr val="000000"/>
              </a:solidFill>
              <a:latin typeface="Arial"/>
            </a:endParaRPr>
          </a:p>
        </p:txBody>
      </p:sp>
      <p:sp>
        <p:nvSpPr>
          <p:cNvPr id="3" name="Text Box 10"/>
          <p:cNvSpPr/>
          <p:nvPr/>
        </p:nvSpPr>
        <p:spPr>
          <a:xfrm>
            <a:off x="298440" y="6624720"/>
            <a:ext cx="184320" cy="24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1"/>
          <p:cNvSpPr/>
          <p:nvPr/>
        </p:nvSpPr>
        <p:spPr>
          <a:xfrm>
            <a:off x="212760" y="6613560"/>
            <a:ext cx="2952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ction 7          </a:t>
            </a:r>
            <a:endParaRPr b="0" lang="en-US" sz="1000" spc="-1" strike="noStrike">
              <a:solidFill>
                <a:srgbClr val="000000"/>
              </a:solidFill>
              <a:latin typeface="Arial"/>
            </a:endParaRPr>
          </a:p>
        </p:txBody>
      </p:sp>
      <p:sp>
        <p:nvSpPr>
          <p:cNvPr id="5" name="PlaceHolder 2"/>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3"/>
          <p:cNvSpPr/>
          <p:nvPr/>
        </p:nvSpPr>
        <p:spPr>
          <a:xfrm>
            <a:off x="6753240" y="6610320"/>
            <a:ext cx="213372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8374-4949-4A1D-B9D7-DEA7C684D0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 name="Text Box 2"/>
          <p:cNvSpPr/>
          <p:nvPr/>
        </p:nvSpPr>
        <p:spPr>
          <a:xfrm>
            <a:off x="5810400" y="623880"/>
            <a:ext cx="46656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4"/>
          <p:cNvSpPr/>
          <p:nvPr/>
        </p:nvSpPr>
        <p:spPr>
          <a:xfrm>
            <a:off x="6172200" y="647640"/>
            <a:ext cx="542880" cy="1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W:\share\staging_areas\SLIDES.GUAM24\slide1.jpg"/>
          <p:cNvPicPr/>
          <p:nvPr/>
        </p:nvPicPr>
        <p:blipFill>
          <a:blip r:embed="rId1"/>
          <a:srcRect l="0" t="3813" r="0" b="2742"/>
          <a:stretch/>
        </p:blipFill>
        <p:spPr>
          <a:xfrm>
            <a:off x="0" y="307800"/>
            <a:ext cx="9144000" cy="6316920"/>
          </a:xfrm>
          <a:prstGeom prst="rect">
            <a:avLst/>
          </a:prstGeom>
          <a:ln w="0">
            <a:noFill/>
          </a:ln>
        </p:spPr>
      </p:pic>
      <p:sp>
        <p:nvSpPr>
          <p:cNvPr id="46" name="Rectangle 5"/>
          <p:cNvSpPr/>
          <p:nvPr/>
        </p:nvSpPr>
        <p:spPr>
          <a:xfrm>
            <a:off x="0" y="6005520"/>
            <a:ext cx="91440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 RWY 24L: Start approach heading 134 at (TFR) UNZ350009 at 20000 ft. Turn left heading 131 to UNZ360007 at 17117 ft. Turn left heading 062 to UAM341005 at 11395 ft. Straight heading 062 to UAM036011 (IAF) at 7347 ft. Turn right heading 154 to UAM064009 at 5185 ft. Turn right heading 243 to UAM065007 at 3955 ft. Turn right heading 244 to UAM065006 at 3477 ft. Straight heading 244 to UAM066005 (FAF) at 2999 ft. to touchdown (150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4:03:31Z</dcterms:created>
  <dc:creator>harrije2</dc:creator>
  <dc:description/>
  <dc:language>en-US</dc:language>
  <cp:lastModifiedBy>B, Baker</cp:lastModifiedBy>
  <dcterms:modified xsi:type="dcterms:W3CDTF">2009-12-30T05:53:07Z</dcterms:modified>
  <cp:revision>288</cp:revision>
  <dc:subject/>
  <dc:title>Slide 1</dc:title>
</cp:coreProperties>
</file>