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9532-0282-401D-B040-13527AF55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9021-F7AA-474A-BB3B-6603B0D7E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4FDF-4CC5-49D3-B22A-F899E7940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0F22-E0AF-4870-B69B-396D242942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7A7B-BEE6-4A9C-89BE-ABDA98163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DC39-3365-4D1B-A588-BB1D04A51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8202-25A3-4743-ADCB-A140CCCE1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0CBF2-48E2-4FF4-971E-3A6DF35EC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7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56D0-75D6-45C1-8A17-0D222D7A1B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C941-D28C-4C84-9F46-578B37DA7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3D22-276F-4B36-8304-373D7E000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B602-0F8F-41E5-A75D-359F21623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3133800" y="47520"/>
            <a:ext cx="28954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75288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184-2D76-4D1A-A237-8722CFA833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124080" y="6595920"/>
            <a:ext cx="289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298440" y="66247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12760" y="6613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ction 7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A3D-A829-407C-B335-D88EA4FC0B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AC 8 01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838840" y="619200"/>
            <a:ext cx="6476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724360" y="600120"/>
            <a:ext cx="562320" cy="5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:\share\staging_areas\SLIDES2.WALTGUAM\slide7.jpg"/>
          <p:cNvPicPr/>
          <p:nvPr/>
        </p:nvPicPr>
        <p:blipFill>
          <a:blip r:embed="rId1"/>
          <a:srcRect l="0" t="3518" r="0" b="2082"/>
          <a:stretch/>
        </p:blipFill>
        <p:spPr>
          <a:xfrm>
            <a:off x="0" y="279360"/>
            <a:ext cx="914400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7370-F2AF-4FCD-AE8A-4C5A86CF2C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V:\share\staging_areas\SLIDES2.WALTGUAM\slide6.jpg"/>
          <p:cNvPicPr/>
          <p:nvPr/>
        </p:nvPicPr>
        <p:blipFill>
          <a:blip r:embed="rId1"/>
          <a:srcRect l="0" t="4444" r="0" b="2591"/>
          <a:stretch/>
        </p:blipFill>
        <p:spPr>
          <a:xfrm>
            <a:off x="0" y="285840"/>
            <a:ext cx="9144000" cy="637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TextBox 4"/>
          <p:cNvSpPr/>
          <p:nvPr/>
        </p:nvSpPr>
        <p:spPr>
          <a:xfrm>
            <a:off x="4753080" y="197172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353/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91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438360" y="298116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281/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T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7"/>
          <p:cNvCxnSpPr>
            <a:stCxn id="51" idx="2"/>
          </p:cNvCxnSpPr>
          <p:nvPr/>
        </p:nvCxnSpPr>
        <p:spPr>
          <a:xfrm>
            <a:off x="5161320" y="2309400"/>
            <a:ext cx="429480" cy="5292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" name="Straight Arrow Connector 9"/>
          <p:cNvCxnSpPr>
            <a:stCxn id="51" idx="2"/>
          </p:cNvCxnSpPr>
          <p:nvPr/>
        </p:nvCxnSpPr>
        <p:spPr>
          <a:xfrm>
            <a:off x="5162400" y="2309400"/>
            <a:ext cx="41040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1"/>
          <p:cNvCxnSpPr>
            <a:stCxn id="52" idx="2"/>
          </p:cNvCxnSpPr>
          <p:nvPr/>
        </p:nvCxnSpPr>
        <p:spPr>
          <a:xfrm>
            <a:off x="3846960" y="3319560"/>
            <a:ext cx="848520" cy="6055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" name="Straight Arrow Connector 13"/>
          <p:cNvCxnSpPr>
            <a:stCxn id="52" idx="2"/>
          </p:cNvCxnSpPr>
          <p:nvPr/>
        </p:nvCxnSpPr>
        <p:spPr>
          <a:xfrm>
            <a:off x="3846960" y="3319560"/>
            <a:ext cx="886680" cy="605520"/>
          </a:xfrm>
          <a:prstGeom prst="straightConnector1">
            <a:avLst/>
          </a:prstGeom>
          <a:ln w="9360">
            <a:solidFill>
              <a:srgbClr val="000000">
                <a:alpha val="0"/>
              </a:srgbClr>
            </a:solidFill>
            <a:miter/>
            <a:tailEnd len="med" type="arrow" w="med"/>
          </a:ln>
        </p:spPr>
      </p:cxnSp>
      <p:cxnSp>
        <p:nvCxnSpPr>
          <p:cNvPr id="57" name="Straight Arrow Connector 15"/>
          <p:cNvCxnSpPr>
            <a:stCxn id="52" idx="2"/>
          </p:cNvCxnSpPr>
          <p:nvPr/>
        </p:nvCxnSpPr>
        <p:spPr>
          <a:xfrm>
            <a:off x="3848040" y="3319560"/>
            <a:ext cx="867600" cy="6148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8" name="Straight Arrow Connector 17"/>
          <p:cNvCxnSpPr>
            <a:stCxn id="52" idx="2"/>
          </p:cNvCxnSpPr>
          <p:nvPr/>
        </p:nvCxnSpPr>
        <p:spPr>
          <a:xfrm>
            <a:off x="3846960" y="3319560"/>
            <a:ext cx="85788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BCF0-8BB1-45AA-B0D4-FC218FD502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V:\share\staging_areas\SLIDES.WALTGUAM\slide5.jpg"/>
          <p:cNvPicPr/>
          <p:nvPr/>
        </p:nvPicPr>
        <p:blipFill>
          <a:blip r:embed="rId1"/>
          <a:srcRect l="0" t="3167" r="0" b="2178"/>
          <a:stretch/>
        </p:blipFill>
        <p:spPr>
          <a:xfrm>
            <a:off x="0" y="295200"/>
            <a:ext cx="9144000" cy="6350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781360" y="54288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353/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91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5"/>
          <p:cNvCxnSpPr/>
          <p:nvPr/>
        </p:nvCxnSpPr>
        <p:spPr>
          <a:xfrm>
            <a:off x="3591000" y="671040"/>
            <a:ext cx="41040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6"/>
          <p:cNvSpPr/>
          <p:nvPr/>
        </p:nvSpPr>
        <p:spPr>
          <a:xfrm>
            <a:off x="1085760" y="1562040"/>
            <a:ext cx="86688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AM 281/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 TF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7"/>
          <p:cNvCxnSpPr/>
          <p:nvPr/>
        </p:nvCxnSpPr>
        <p:spPr>
          <a:xfrm>
            <a:off x="1923120" y="1882800"/>
            <a:ext cx="857880" cy="72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Rectangle 8"/>
          <p:cNvSpPr/>
          <p:nvPr/>
        </p:nvSpPr>
        <p:spPr>
          <a:xfrm>
            <a:off x="6610320" y="2705040"/>
            <a:ext cx="1266840" cy="2772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B734-A351-4FB9-AD30-99476D3F9D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V:\share\staging_areas\SLIDES.WALTGUAM\slide4.jpg"/>
          <p:cNvPicPr/>
          <p:nvPr/>
        </p:nvPicPr>
        <p:blipFill>
          <a:blip r:embed="rId1"/>
          <a:srcRect l="0" t="3983" r="0" b="1993"/>
          <a:stretch/>
        </p:blipFill>
        <p:spPr>
          <a:xfrm>
            <a:off x="0" y="27936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971800" y="450540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6/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07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95200" y="98100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7/0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88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181160" y="364824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06/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47600" y="265752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3/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8"/>
          <p:cNvCxnSpPr/>
          <p:nvPr/>
        </p:nvCxnSpPr>
        <p:spPr>
          <a:xfrm flipV="1">
            <a:off x="838080" y="732960"/>
            <a:ext cx="36252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9"/>
          <p:cNvCxnSpPr/>
          <p:nvPr/>
        </p:nvCxnSpPr>
        <p:spPr>
          <a:xfrm flipV="1">
            <a:off x="1866600" y="2513880"/>
            <a:ext cx="362520" cy="23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 flipV="1">
            <a:off x="1990800" y="3428280"/>
            <a:ext cx="5054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 flipV="1">
            <a:off x="3800520" y="4209840"/>
            <a:ext cx="50544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341B-3123-416F-9D42-9F65635C8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V:\share\staging_areas\SLIDES.WALTGUAM\slide3.jpg"/>
          <p:cNvPicPr/>
          <p:nvPr/>
        </p:nvPicPr>
        <p:blipFill>
          <a:blip r:embed="rId1"/>
          <a:srcRect l="0" t="3333" r="0" b="2407"/>
          <a:stretch/>
        </p:blipFill>
        <p:spPr>
          <a:xfrm>
            <a:off x="0" y="317520"/>
            <a:ext cx="9144000" cy="6299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5200" y="98100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7/0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88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552600" y="220968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3/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1209600" y="374328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06/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162240" y="454356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6/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07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8"/>
          <p:cNvCxnSpPr/>
          <p:nvPr/>
        </p:nvCxnSpPr>
        <p:spPr>
          <a:xfrm flipV="1">
            <a:off x="838080" y="732960"/>
            <a:ext cx="362520" cy="239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Straight Arrow Connector 9"/>
          <p:cNvCxnSpPr/>
          <p:nvPr/>
        </p:nvCxnSpPr>
        <p:spPr>
          <a:xfrm>
            <a:off x="1380600" y="2360520"/>
            <a:ext cx="791640" cy="2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11"/>
          <p:cNvCxnSpPr/>
          <p:nvPr/>
        </p:nvCxnSpPr>
        <p:spPr>
          <a:xfrm flipV="1">
            <a:off x="1924200" y="3447360"/>
            <a:ext cx="552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7" name="Straight Arrow Connector 13"/>
          <p:cNvCxnSpPr/>
          <p:nvPr/>
        </p:nvCxnSpPr>
        <p:spPr>
          <a:xfrm flipV="1">
            <a:off x="3790440" y="4209840"/>
            <a:ext cx="50580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753240" y="66103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A0ED-0930-4E78-BE53-86A68E734D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V:\share\staging_areas\SLIDES.WALTGUAM\slide1.jpg"/>
          <p:cNvPicPr/>
          <p:nvPr/>
        </p:nvPicPr>
        <p:blipFill>
          <a:blip r:embed="rId1"/>
          <a:srcRect l="0" t="4629" r="0" b="3148"/>
          <a:stretch/>
        </p:blipFill>
        <p:spPr>
          <a:xfrm>
            <a:off x="0" y="317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>
            <a:off x="723960" y="259092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7/09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288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419120" y="4038480"/>
            <a:ext cx="81936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3/0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1952640" y="585792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06/0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tch Pt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4000680" y="6276960"/>
            <a:ext cx="8190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Z 316/0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307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9"/>
          <p:cNvCxnSpPr>
            <a:stCxn id="91" idx="3"/>
          </p:cNvCxnSpPr>
          <p:nvPr/>
        </p:nvCxnSpPr>
        <p:spPr>
          <a:xfrm flipV="1">
            <a:off x="1542960" y="2647440"/>
            <a:ext cx="667440" cy="11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Straight Arrow Connector 11"/>
          <p:cNvCxnSpPr>
            <a:stCxn id="92" idx="3"/>
          </p:cNvCxnSpPr>
          <p:nvPr/>
        </p:nvCxnSpPr>
        <p:spPr>
          <a:xfrm>
            <a:off x="2238480" y="4208400"/>
            <a:ext cx="953280" cy="1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3"/>
          <p:cNvCxnSpPr>
            <a:stCxn id="93" idx="3"/>
          </p:cNvCxnSpPr>
          <p:nvPr/>
        </p:nvCxnSpPr>
        <p:spPr>
          <a:xfrm flipV="1">
            <a:off x="2771640" y="5447880"/>
            <a:ext cx="743760" cy="58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Straight Arrow Connector 15"/>
          <p:cNvCxnSpPr>
            <a:stCxn id="94" idx="3"/>
          </p:cNvCxnSpPr>
          <p:nvPr/>
        </p:nvCxnSpPr>
        <p:spPr>
          <a:xfrm flipV="1">
            <a:off x="4819680" y="6200280"/>
            <a:ext cx="49608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03:31Z</dcterms:created>
  <dc:creator>harrije2</dc:creator>
  <dc:description/>
  <dc:language>en-US</dc:language>
  <cp:lastModifiedBy>afmss</cp:lastModifiedBy>
  <dcterms:modified xsi:type="dcterms:W3CDTF">2010-01-06T16:45:52Z</dcterms:modified>
  <cp:revision>254</cp:revision>
  <dc:subject/>
  <dc:title>Slide 1</dc:title>
</cp:coreProperties>
</file>