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2CF5-38E5-4DE0-B69F-26B63E0FB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A35F-AFCE-4AB4-A697-06082F85D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8F51-441A-4EC8-AAEE-3B36358B0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41C40-D4D8-413C-8644-3031B4AA9D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C885-5B32-426F-907F-0E573B792E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3FB4-CC2F-4253-9C81-B1D9270B78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DA80-AC99-4EE1-99BE-FC922367C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23C6-1E4B-4A5F-B83D-D3FD8D15B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7895-945C-4FF5-9674-9A165EEC9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173D-3860-4A86-9048-9DD5D6686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12DE-9322-4B10-942D-5C9224FD5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49B2-438E-49ED-BB5A-8AD162582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33800" y="47520"/>
            <a:ext cx="28954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75288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C5A1-F0A4-4C46-B1B8-96E62EA5D6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595920"/>
            <a:ext cx="2895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98440" y="6624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12760" y="6613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ction 7 (B249BWF1 Supplem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3613" r="0" b="2392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19472-7A0C-48EA-92D6-47BA80A43C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4222" r="0" b="2480"/>
          <a:stretch/>
        </p:blipFill>
        <p:spPr>
          <a:xfrm>
            <a:off x="11160" y="307800"/>
            <a:ext cx="913284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704D-079F-49FD-8377-8E652C2CC8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3093" r="0" b="239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07CE-CB4F-4270-847B-AF5CD49DD3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3473" r="0" b="283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EA5C-DD40-43EE-93C2-056595A41C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3403" r="0" b="263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6290-C059-4FD2-97F2-2B5CD545F6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3518" r="0" b="2344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51084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2F00-10AF-45D8-B901-44D2E6CA0F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3580" r="0" b="2554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51084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36EF-5737-4BFA-ADC1-FB3448115B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3613" r="0" b="2392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5649840" y="3078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4EBE-C870-4CB0-9C95-CCDE17E24F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640" r="0" b="2510"/>
          <a:stretch/>
        </p:blipFill>
        <p:spPr>
          <a:xfrm>
            <a:off x="0" y="307800"/>
            <a:ext cx="9144000" cy="616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3078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0141-9377-4638-B678-3ED6267985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4222" r="0" b="2610"/>
          <a:stretch/>
        </p:blipFill>
        <p:spPr>
          <a:xfrm>
            <a:off x="23760" y="307800"/>
            <a:ext cx="9120240" cy="631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51084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CDEE-4F66-4DBB-A902-2E3ADF6EDF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3241" r="0" b="204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3078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549F-07A3-4F2F-A3F6-B49DFEAA41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3964" r="0" b="373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51084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6063-2DB9-4748-B0D2-E737854859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3292" r="0" b="2606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A8194-B694-45C9-949F-2FABFD6DEB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4:03:31Z</dcterms:created>
  <dc:creator>harrije2</dc:creator>
  <dc:description/>
  <dc:language>en-US</dc:language>
  <cp:lastModifiedBy>michael.masucci</cp:lastModifiedBy>
  <dcterms:modified xsi:type="dcterms:W3CDTF">2007-10-23T23:33:28Z</dcterms:modified>
  <cp:revision>114</cp:revision>
  <dc:subject/>
  <dc:title>Slide 1</dc:title>
</cp:coreProperties>
</file>